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703-5167-4D77-9E12-996C01F1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F53-A229-4F4A-ABE7-3384FF6E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A48-6E13-44C6-AD61-50AAA62F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C95-6516-4662-A65E-B59900BE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F7B-B0CA-484E-B305-AA736178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AEA-F12B-44BC-8AAB-8755F515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9D4-0F85-4CAB-9CFF-53CFCF07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9B5-9A70-460D-8FEA-0AE4DA0F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96B-9723-4787-A8F3-728ADA74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BD0-4737-4293-BEB0-50CF4AE0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F37-1D8A-4B6F-A0CE-9B7CCE4F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69B-9D77-415B-909E-CDECB424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8DDF-4FD0-43CC-B92C-C258176B22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Georgia"/>
              </a:rPr>
              <a:t>Архітектура</a:t>
            </a: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 Античної</a:t>
            </a:r>
            <a:r>
              <a:rPr b="1" lang="uk-UA" sz="6600" spc="-1" strike="noStrike">
                <a:solidFill>
                  <a:srgbClr val="ffff00"/>
                </a:solidFill>
                <a:latin typeface="Georgia"/>
              </a:rPr>
              <a:t> Греції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D:\Мои документы\моя самоосвіта\ПЕДТЕХНОЛОГІЯ 2011\800px-Acropolis.JPG"/>
          <p:cNvPicPr/>
          <p:nvPr/>
        </p:nvPicPr>
        <p:blipFill>
          <a:blip r:embed="rId2"/>
          <a:stretch/>
        </p:blipFill>
        <p:spPr>
          <a:xfrm>
            <a:off x="3484440" y="2786040"/>
            <a:ext cx="5088240" cy="3816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0040" y="4572000"/>
            <a:ext cx="264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Monotype Corsiva"/>
              </a:rPr>
              <a:t>Архітектура – це застигла музи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Храм Ніки Аптеро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714320"/>
            <a:ext cx="40384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ffff00"/>
                </a:solidFill>
                <a:latin typeface="Georgia"/>
              </a:rPr>
              <a:t>Споруджувався храм в період 427—421 років до н. е. за проектом архітектора Каллікрата.Його присвятили богині Афіні Ніці Аптерос</a:t>
            </a:r>
            <a:r>
              <a:rPr b="0" lang="el-GR" sz="1600" spc="-1" strike="noStrike">
                <a:solidFill>
                  <a:srgbClr val="ffff00"/>
                </a:solidFill>
                <a:latin typeface="Georgia"/>
              </a:rPr>
              <a:t>— </a:t>
            </a:r>
            <a:r>
              <a:rPr b="0" lang="ru-RU" sz="1600" spc="-1" strike="noStrike">
                <a:solidFill>
                  <a:srgbClr val="ffff00"/>
                </a:solidFill>
                <a:latin typeface="Georgia"/>
              </a:rPr>
              <a:t>Афіні Переможиці Безкрилій, яку афіняни позбавили крил для того, щоб Перемога ніколи не залишала місто.       Храм виконаний з мармуру. Всередині стояла статуя Афіни (донині не збереглась), яка тримала в одній руці шолом, в іншій — гранат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D:\Мои документы\моя самоосвіта\ПЕДТЕХНОЛОГІЯ 2011\800px-Temple_of_athena_nike_2010.jpg"/>
          <p:cNvPicPr/>
          <p:nvPr/>
        </p:nvPicPr>
        <p:blipFill>
          <a:blip r:embed="rId2"/>
          <a:srcRect l="6609" t="0" r="18033" b="0"/>
          <a:stretch/>
        </p:blipFill>
        <p:spPr>
          <a:xfrm>
            <a:off x="4071960" y="1857240"/>
            <a:ext cx="4886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Georgia"/>
              </a:rPr>
              <a:t>Парфенон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3840" y="1832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ffff00"/>
                </a:solidFill>
                <a:latin typeface="Georgia"/>
              </a:rPr>
              <a:t>Парфенон</a:t>
            </a:r>
            <a:r>
              <a:rPr b="0" lang="el-GR" sz="2600" spc="-1" strike="noStrike">
                <a:solidFill>
                  <a:srgbClr val="ffff00"/>
                </a:solidFill>
                <a:latin typeface="Georgia"/>
              </a:rPr>
              <a:t>— </a:t>
            </a:r>
            <a:r>
              <a:rPr b="0" lang="ru-RU" sz="2600" spc="-1" strike="noStrike">
                <a:solidFill>
                  <a:srgbClr val="ffff00"/>
                </a:solidFill>
                <a:latin typeface="Georgia"/>
              </a:rPr>
              <a:t>головний храм Афінського акрополя, присвячений богині Афіні Парфенос, покровительці міста та всієї Аттики; визначна пам'ятка давньогрецького мистецтв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0" lang="ru-RU" sz="2600" spc="-1" strike="noStrike">
                <a:solidFill>
                  <a:srgbClr val="ffff00"/>
                </a:solidFill>
                <a:latin typeface="Georgia"/>
              </a:rPr>
              <a:t>Був зведений до 438 року до н. е. за 10 років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D:\Мои документы\моя самоосвіта\ПЕДТЕХНОЛОГІЯ 2011\parthenon009.jpg"/>
          <p:cNvPicPr/>
          <p:nvPr/>
        </p:nvPicPr>
        <p:blipFill>
          <a:blip r:embed="rId2"/>
          <a:srcRect l="8724" t="0" r="2826" b="0"/>
          <a:stretch/>
        </p:blipFill>
        <p:spPr>
          <a:xfrm>
            <a:off x="4429080" y="1857240"/>
            <a:ext cx="458460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eorgia"/>
              </a:rPr>
              <a:t>Храм Ерехтейон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928760" y="1142640"/>
            <a:ext cx="40388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ffff00"/>
                </a:solidFill>
                <a:latin typeface="Georgia"/>
              </a:rPr>
              <a:t>Ерехтейон</a:t>
            </a:r>
            <a:r>
              <a:rPr b="0" lang="el-GR" sz="1800" spc="-1" strike="noStrike">
                <a:solidFill>
                  <a:srgbClr val="ffff00"/>
                </a:solidFill>
                <a:latin typeface="Georgia"/>
              </a:rPr>
              <a:t>— </a:t>
            </a:r>
            <a:r>
              <a:rPr b="0" lang="ru-RU" sz="1800" spc="-1" strike="noStrike">
                <a:solidFill>
                  <a:srgbClr val="ffff00"/>
                </a:solidFill>
                <a:latin typeface="Georgia"/>
              </a:rPr>
              <a:t>пам'ятка давньогрецької архітектури (421—406 до н. е.). Храм на місці суперечки Афіни та Посейдона-Ерехтея на Акрополі в Афінах за право володіння Аттикою. Він має унікальний для грецької архітектури асиметричний план. В Ерехтейоні колони замінені шістьма мармуровими фігурами дівчат-каріатид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D:\Мои документы\моя самоосвіта\ПЕДТЕХНОЛОГІЯ 2011\att-49f6b077dfb1eorth.jpg"/>
          <p:cNvPicPr/>
          <p:nvPr/>
        </p:nvPicPr>
        <p:blipFill>
          <a:blip r:embed="rId2"/>
          <a:srcRect l="7998" t="0" r="6487" b="0"/>
          <a:stretch/>
        </p:blipFill>
        <p:spPr>
          <a:xfrm>
            <a:off x="142920" y="1643040"/>
            <a:ext cx="5000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3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Портик Каріатид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42880" y="272520"/>
            <a:ext cx="45435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000080"/>
            <a:ext cx="378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Georgia"/>
              </a:rPr>
              <a:t>Це шість фігур молодих жінок, одягнених в афінський костюм, на них спираються важкі квадратної форми плит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Georgia"/>
              </a:rPr>
              <a:t>Це перший в історії світового мистецтва випадок використання подібних жіночих фігур для підтримки балок. П'ять каріатід  і досі залишились стояти на своїх місцях. Шоста ж вивезена лордом Ельджіном до Лондону і тепер зберігається в Британському музеї. В Афінах вона замінена теракотовою копією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D:\Мои документы\моя самоосвіта\ПЕДТЕХНОЛОГІЯ 2011\800px-Porch_of_Maidens.jpg"/>
          <p:cNvPicPr/>
          <p:nvPr/>
        </p:nvPicPr>
        <p:blipFill>
          <a:blip r:embed="rId2"/>
          <a:srcRect l="14065" t="0" r="4882" b="0"/>
          <a:stretch/>
        </p:blipFill>
        <p:spPr>
          <a:xfrm>
            <a:off x="3745080" y="793800"/>
            <a:ext cx="532764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eorgia"/>
              </a:rPr>
              <a:t>Храм Артемід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480" y="1534680"/>
            <a:ext cx="421164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Georgia"/>
              </a:rPr>
              <a:t>Храм грецької богині Армеміди в місті Ефес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D:\Мои документы\моя самоосвіта\ПЕДТЕХНОЛОГІЯ 2011\xram.jpg"/>
          <p:cNvPicPr/>
          <p:nvPr/>
        </p:nvPicPr>
        <p:blipFill>
          <a:blip r:embed="rId2"/>
          <a:srcRect l="6761" t="0" r="6518" b="0"/>
          <a:stretch/>
        </p:blipFill>
        <p:spPr>
          <a:xfrm>
            <a:off x="285840" y="2759040"/>
            <a:ext cx="4214880" cy="34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428480"/>
            <a:ext cx="4041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Georgia"/>
              </a:rPr>
              <a:t>Одне з Семи чудес стародавнього світ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4720" y="2928600"/>
            <a:ext cx="40417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2" descr="D:\Мои документы\моя самоосвіта\ПЕДТЕХНОЛОГІЯ 2011\1282726396_basilica.jpg"/>
          <p:cNvPicPr/>
          <p:nvPr/>
        </p:nvPicPr>
        <p:blipFill>
          <a:blip r:embed="rId3"/>
          <a:srcRect l="9638" t="0" r="10506" b="0"/>
          <a:stretch/>
        </p:blipFill>
        <p:spPr>
          <a:xfrm>
            <a:off x="4572000" y="2759040"/>
            <a:ext cx="41990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300852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Храм Гефес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74800" y="1714680"/>
            <a:ext cx="5111640" cy="2643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928520"/>
            <a:ext cx="30081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uk-UA" sz="2800" spc="-1" strike="noStrike">
                <a:solidFill>
                  <a:srgbClr val="ffff00"/>
                </a:solidFill>
                <a:latin typeface="Georgia"/>
              </a:rPr>
              <a:t>Храм Гефеста є найкраще збереженим серед усіх давньогрецьких культових споруд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D:\Мои документы\моя самоосвіта\ПЕДТЕХНОЛОГІЯ 2011\Temple_of_Hephaestus.jpg"/>
          <p:cNvPicPr/>
          <p:nvPr/>
        </p:nvPicPr>
        <p:blipFill>
          <a:blip r:embed="rId3"/>
          <a:srcRect l="6123" t="0" r="6123" b="0"/>
          <a:stretch/>
        </p:blipFill>
        <p:spPr>
          <a:xfrm>
            <a:off x="3357720" y="1314360"/>
            <a:ext cx="55720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eorgia"/>
              </a:rPr>
              <a:t>Храм Зевс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64304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Georgia"/>
              </a:rPr>
              <a:t>      </a:t>
            </a:r>
            <a:r>
              <a:rPr b="0" lang="uk-UA" sz="1800" spc="-1" strike="noStrike">
                <a:solidFill>
                  <a:srgbClr val="ffff00"/>
                </a:solidFill>
                <a:latin typeface="Georgia"/>
              </a:rPr>
              <a:t>Храм Зевса Олімпійського  (Олімпейон) — найбільший храм Стародавньої Греції, своїми розмірами перевершив Парфенон, був також найбільшою спорудою Пелопоннесу. У первісному вигляді мав 104 колони заввишки 17 м, з них донині збереглись лише 15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D:\Мои документы\моя самоосвіта\ПЕДТЕХНОЛОГІЯ 2011\800px-Templo-de-zeus-2.jpg"/>
          <p:cNvPicPr/>
          <p:nvPr/>
        </p:nvPicPr>
        <p:blipFill>
          <a:blip r:embed="rId2"/>
          <a:srcRect l="12168" t="0" r="11927" b="0"/>
          <a:stretch/>
        </p:blipFill>
        <p:spPr>
          <a:xfrm>
            <a:off x="3929040" y="1285920"/>
            <a:ext cx="50007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785880"/>
            <a:ext cx="39718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Римський історик Плутарх писав про споруди Акрополя: «… їх вічна новизна врятувала їх від дотику часу»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D:\Мои документы\моя самоосвіта\ПЕДТЕХНОЛОГІЯ 2011\plutarch_delphi_mus3.JPG"/>
          <p:cNvPicPr/>
          <p:nvPr/>
        </p:nvPicPr>
        <p:blipFill>
          <a:blip r:embed="rId2"/>
          <a:srcRect l="7023" t="0" r="8995" b="0"/>
          <a:stretch/>
        </p:blipFill>
        <p:spPr>
          <a:xfrm>
            <a:off x="4500720" y="272880"/>
            <a:ext cx="4000320" cy="5853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Мои документы\моя самоосвіта\ПЕДТЕХНОЛОГІЯ 2011\b0.jpg"/>
          <p:cNvPicPr/>
          <p:nvPr/>
        </p:nvPicPr>
        <p:blipFill>
          <a:blip r:embed="rId2"/>
          <a:srcRect l="11216" t="8249" r="12298" b="69350"/>
          <a:stretch/>
        </p:blipFill>
        <p:spPr>
          <a:xfrm>
            <a:off x="5000760" y="1857240"/>
            <a:ext cx="3571920" cy="150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Мои документы\моя самоосвіта\ПЕДТЕХНОЛОГІЯ 2011\b0.jpg"/>
          <p:cNvPicPr/>
          <p:nvPr/>
        </p:nvPicPr>
        <p:blipFill>
          <a:blip r:embed="rId3"/>
          <a:srcRect l="11216" t="34924" r="12298" b="43741"/>
          <a:stretch/>
        </p:blipFill>
        <p:spPr>
          <a:xfrm>
            <a:off x="5000760" y="4357800"/>
            <a:ext cx="3571920" cy="142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Мои документы\моя самоосвіта\ПЕДТЕХНОЛОГІЯ 2011\b0.jpg"/>
          <p:cNvPicPr/>
          <p:nvPr/>
        </p:nvPicPr>
        <p:blipFill>
          <a:blip r:embed="rId4"/>
          <a:srcRect l="11216" t="59463" r="12298" b="4266"/>
          <a:stretch/>
        </p:blipFill>
        <p:spPr>
          <a:xfrm>
            <a:off x="642960" y="2428920"/>
            <a:ext cx="3571920" cy="2428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eorgia"/>
              </a:rPr>
              <a:t>Архітектурні ордери (колони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1714680" y="5715000"/>
            <a:ext cx="2000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1143000" y="51436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eorgia"/>
              </a:rPr>
              <a:t>коринфськ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5786280" y="357192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eorgia"/>
              </a:rPr>
              <a:t>дорійськ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715000" y="6000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eorgia"/>
              </a:rPr>
              <a:t>іонійськ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Мои документы\моя самоосвіта\ПЕДТЕХНОЛОГІЯ 2011\kw8002.jpg"/>
          <p:cNvPicPr/>
          <p:nvPr/>
        </p:nvPicPr>
        <p:blipFill>
          <a:blip r:embed="rId2"/>
          <a:srcRect l="2755" t="0" r="5461" b="0"/>
          <a:stretch/>
        </p:blipFill>
        <p:spPr>
          <a:xfrm>
            <a:off x="5000760" y="527040"/>
            <a:ext cx="1428480" cy="57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44290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Дорійський ордер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3840" y="1428840"/>
            <a:ext cx="44290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100" spc="-1" strike="noStrike">
                <a:solidFill>
                  <a:srgbClr val="ffff00"/>
                </a:solidFill>
                <a:latin typeface="Georgia"/>
              </a:rPr>
              <a:t>Дорійський ордер —класичний зразок архітектурної форми. Його колона, оформлена поздовжніми жолобками, не має бази і спирається безпосередньо на основу будинку. Капітель колони складається з квадратної плити та її круглої основи </a:t>
            </a:r>
            <a:r>
              <a:rPr b="0" lang="uk-UA" sz="2100" spc="-1" strike="noStrike">
                <a:solidFill>
                  <a:srgbClr val="ffff00"/>
                </a:solidFill>
                <a:latin typeface="Georgia"/>
              </a:rPr>
              <a:t>- </a:t>
            </a:r>
            <a:r>
              <a:rPr b="0" lang="ru-RU" sz="2100" spc="-1" strike="noStrike">
                <a:solidFill>
                  <a:srgbClr val="ffff00"/>
                </a:solidFill>
                <a:latin typeface="Georgia"/>
              </a:rPr>
              <a:t>подушки. Кращими є ордери храму Парфенон в Афінах , храму Зевса в Олімпії .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4" descr="D:\Мои документы\моя самоосвіта\ПЕДТЕХНОЛОГІЯ 2011\18628.jpg"/>
          <p:cNvPicPr/>
          <p:nvPr/>
        </p:nvPicPr>
        <p:blipFill>
          <a:blip r:embed="rId3"/>
          <a:srcRect l="58625" t="0" r="15306" b="0"/>
          <a:stretch/>
        </p:blipFill>
        <p:spPr>
          <a:xfrm>
            <a:off x="6786720" y="500040"/>
            <a:ext cx="20016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7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Іонійський орде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043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Іонійський ордер за своїми пропорціями стрункіший. Його колона оздоблена канелюрами півкруглого перерізу і спирається на базу складного профілю. Капітель прикрашена двома красивого обрису завитками. Найкращим зразком є ордери храму Ніки Аптерос  і Пропілеїв  в Афінському акрополі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D:\Мои документы\моя самоосвіта\ПЕДТЕХНОЛОГІЯ 2011\kw8003(1).jpg"/>
          <p:cNvPicPr/>
          <p:nvPr/>
        </p:nvPicPr>
        <p:blipFill>
          <a:blip r:embed="rId2"/>
          <a:stretch/>
        </p:blipFill>
        <p:spPr>
          <a:xfrm>
            <a:off x="5072040" y="272880"/>
            <a:ext cx="1555920" cy="575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D:\Мои документы\моя самоосвіта\ПЕДТЕХНОЛОГІЯ 2011\469px-Архітектурні_ордери.png"/>
          <p:cNvPicPr/>
          <p:nvPr/>
        </p:nvPicPr>
        <p:blipFill>
          <a:blip r:embed="rId3"/>
          <a:srcRect l="42010" t="0" r="30816" b="17499"/>
          <a:stretch/>
        </p:blipFill>
        <p:spPr>
          <a:xfrm>
            <a:off x="7000920" y="285840"/>
            <a:ext cx="14842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82896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Коринфський ордер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 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1642680"/>
            <a:ext cx="4114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Корінфський ордер відрізняється від іонічного своїми пропорціями та складнішою формою бази й особливо капітелі, яка схожа на букет листків аканта. Найкращими прикладами його є ордери пам'ятника Лісікрата та храму Зевса Олімпійського в Афінах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D:\Мои документы\моя самоосвіта\ПЕДТЕХНОЛОГІЯ 2011\jazliv_kolony_vivtaria_korchak.jpg"/>
          <p:cNvPicPr/>
          <p:nvPr/>
        </p:nvPicPr>
        <p:blipFill>
          <a:blip r:embed="rId2"/>
          <a:srcRect l="20900" t="14482" r="32981" b="16069"/>
          <a:stretch/>
        </p:blipFill>
        <p:spPr>
          <a:xfrm>
            <a:off x="4718160" y="500040"/>
            <a:ext cx="2425680" cy="2739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D:\Мои документы\моя самоосвіта\ПЕДТЕХНОЛОГІЯ 2011\0_3e324_85f54f2a_L.jpg"/>
          <p:cNvPicPr/>
          <p:nvPr/>
        </p:nvPicPr>
        <p:blipFill>
          <a:blip r:embed="rId3"/>
          <a:srcRect l="19338" t="17001" r="23533" b="0"/>
          <a:stretch/>
        </p:blipFill>
        <p:spPr>
          <a:xfrm>
            <a:off x="4803840" y="3500280"/>
            <a:ext cx="2411280" cy="2738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Мои документы\моя самоосвіта\ПЕДТЕХНОЛОГІЯ 2011\469px-Архітектурні_ордери.png"/>
          <p:cNvPicPr/>
          <p:nvPr/>
        </p:nvPicPr>
        <p:blipFill>
          <a:blip r:embed="rId4"/>
          <a:srcRect l="80393" t="0" r="0" b="16252"/>
          <a:stretch/>
        </p:blipFill>
        <p:spPr>
          <a:xfrm>
            <a:off x="7596360" y="500040"/>
            <a:ext cx="10476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4200" y="499680"/>
            <a:ext cx="3786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00"/>
                </a:solidFill>
                <a:latin typeface="Times New Roman"/>
              </a:rPr>
              <a:t>Атла́нт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— </a:t>
            </a:r>
            <a:r>
              <a:rPr b="0" lang="vi-VN" sz="2000" spc="-1" strike="noStrike">
                <a:solidFill>
                  <a:srgbClr val="ffff00"/>
                </a:solidFill>
                <a:latin typeface="Times New Roman"/>
              </a:rPr>
              <a:t>у давньогрецькій міфології  брат Прометея</a:t>
            </a:r>
            <a:r>
              <a:rPr b="0" lang="uk-UA" sz="20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00"/>
                </a:solidFill>
                <a:latin typeface="Times New Roman"/>
              </a:rPr>
              <a:t>За міфом, брав участь у боротьбі титанів проти Зевса, за що був покараний: мусив вічно підтримувати небосхил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00"/>
                </a:solidFill>
                <a:latin typeface="Times New Roman"/>
              </a:rPr>
              <a:t>Згідно з іншою версією, за відмову Персеєві в гостинності він став височезною горою, що підпирала небо</a:t>
            </a:r>
            <a:r>
              <a:rPr b="0" lang="uk-UA" sz="20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00"/>
                </a:solidFill>
                <a:latin typeface="Times New Roman"/>
              </a:rPr>
              <a:t>В архітектурі атлантом називають колону у вигляді чоловічої постаті, що застосовується як підпор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00"/>
                </a:solidFill>
                <a:latin typeface="Times New Roman"/>
              </a:rPr>
              <a:t>У переносному значенні Атлант є синонімом слова «велетень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D:\Мои документы\моя самоосвіта\ПЕДТЕХНОЛОГІЯ 2011\atlanti.jpg"/>
          <p:cNvPicPr/>
          <p:nvPr/>
        </p:nvPicPr>
        <p:blipFill>
          <a:blip r:embed="rId2"/>
          <a:srcRect l="15091" t="0" r="5663" b="0"/>
          <a:stretch/>
        </p:blipFill>
        <p:spPr>
          <a:xfrm>
            <a:off x="6354720" y="1143000"/>
            <a:ext cx="2646360" cy="564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D:\Мои документы\моя самоосвіта\ПЕДТЕХНОЛОГІЯ 2011\0_22de5_5efc4a38_L.jpeg"/>
          <p:cNvPicPr/>
          <p:nvPr/>
        </p:nvPicPr>
        <p:blipFill>
          <a:blip r:embed="rId3"/>
          <a:srcRect l="20002" t="0" r="30501" b="15126"/>
          <a:stretch/>
        </p:blipFill>
        <p:spPr>
          <a:xfrm>
            <a:off x="4081320" y="71280"/>
            <a:ext cx="22053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32148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vi-VN" sz="2400" spc="-1" strike="noStrike">
                <a:solidFill>
                  <a:srgbClr val="ffff00"/>
                </a:solidFill>
                <a:latin typeface="Times New Roman"/>
              </a:rPr>
              <a:t>Каріати́да — статуя одягненої жінки, введена у вжиток давньогрецькими архітекторами</a:t>
            </a:r>
            <a:r>
              <a:rPr b="0" lang="uk-UA" sz="2400" spc="-1" strike="noStrike">
                <a:solidFill>
                  <a:srgbClr val="ffff00"/>
                </a:solidFill>
                <a:latin typeface="Georgia"/>
              </a:rPr>
              <a:t>.</a:t>
            </a:r>
            <a:r>
              <a:rPr b="0" lang="vi-V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Georgia"/>
              </a:rPr>
              <a:t>      </a:t>
            </a:r>
            <a:r>
              <a:rPr b="0" lang="vi-VN" sz="2400" spc="-1" strike="noStrike">
                <a:solidFill>
                  <a:srgbClr val="ffff00"/>
                </a:solidFill>
                <a:latin typeface="Times New Roman"/>
              </a:rPr>
              <a:t>Каріатиди заміняють в архітектурі колони</a:t>
            </a:r>
            <a:r>
              <a:rPr b="0" lang="uk-UA" sz="2400" spc="-1" strike="noStrike">
                <a:solidFill>
                  <a:srgbClr val="ffff00"/>
                </a:solidFill>
                <a:latin typeface="Georgia"/>
              </a:rPr>
              <a:t>,</a:t>
            </a:r>
            <a:r>
              <a:rPr b="0" lang="vi-VN" sz="2400" spc="-1" strike="noStrike">
                <a:solidFill>
                  <a:srgbClr val="ffff00"/>
                </a:solidFill>
                <a:latin typeface="Times New Roman"/>
              </a:rPr>
              <a:t> пілястри та інші </a:t>
            </a:r>
            <a:r>
              <a:rPr b="0" lang="uk-UA" sz="2400" spc="-1" strike="noStrike">
                <a:solidFill>
                  <a:srgbClr val="ffff00"/>
                </a:solidFill>
                <a:latin typeface="Georgia"/>
              </a:rPr>
              <a:t>утримуюч</a:t>
            </a:r>
            <a:r>
              <a:rPr b="0" lang="vi-VN" sz="2400" spc="-1" strike="noStrike">
                <a:solidFill>
                  <a:srgbClr val="ffff00"/>
                </a:solidFill>
                <a:latin typeface="Times New Roman"/>
              </a:rPr>
              <a:t>і елементи будівельної конструкції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3" descr="D:\Мои документы\моя самоосвіта\ПЕДТЕХНОЛОГІЯ 2011\caryatideslt5.jpg"/>
          <p:cNvPicPr/>
          <p:nvPr/>
        </p:nvPicPr>
        <p:blipFill>
          <a:blip r:embed="rId2"/>
          <a:srcRect l="12939" t="2380" r="16474" b="3704"/>
          <a:stretch/>
        </p:blipFill>
        <p:spPr>
          <a:xfrm>
            <a:off x="3589200" y="71280"/>
            <a:ext cx="2840040" cy="542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D:\Мои документы\моя самоосвіта\ПЕДТЕХНОЛОГІЯ 2011\r&amp;b05.jpg"/>
          <p:cNvPicPr/>
          <p:nvPr/>
        </p:nvPicPr>
        <p:blipFill>
          <a:blip r:embed="rId3"/>
          <a:srcRect l="58194" t="2503" r="875" b="2503"/>
          <a:stretch/>
        </p:blipFill>
        <p:spPr>
          <a:xfrm>
            <a:off x="6446880" y="1428840"/>
            <a:ext cx="2625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eorgia"/>
              </a:rPr>
              <a:t>Афінський акропо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D:\Мои документы\моя самоосвіта\ПЕДТЕХНОЛОГІЯ 2011\800px-Acropolis_from_Philopappos_Hill.jpg"/>
          <p:cNvPicPr/>
          <p:nvPr/>
        </p:nvPicPr>
        <p:blipFill>
          <a:blip r:embed="rId2"/>
          <a:srcRect l="9862" t="0" r="0" b="0"/>
          <a:stretch/>
        </p:blipFill>
        <p:spPr>
          <a:xfrm>
            <a:off x="142920" y="1714680"/>
            <a:ext cx="4570200" cy="40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00720" y="1600200"/>
            <a:ext cx="43574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Georgia"/>
              </a:rPr>
              <a:t>Найбільш довершеним архітектурним ансамблем класичної Греції є Афінський акрополь. Він був споруджений у другій половині </a:t>
            </a:r>
            <a:r>
              <a:rPr b="0" lang="en-US" sz="1600" spc="-1" strike="noStrike">
                <a:solidFill>
                  <a:srgbClr val="ffff00"/>
                </a:solidFill>
                <a:latin typeface="Georgia"/>
              </a:rPr>
              <a:t>V </a:t>
            </a:r>
            <a:r>
              <a:rPr b="0" lang="ru-RU" sz="1600" spc="-1" strike="noStrike">
                <a:solidFill>
                  <a:srgbClr val="ffff00"/>
                </a:solidFill>
                <a:latin typeface="Georgia"/>
              </a:rPr>
              <a:t>століття до н. е. Пагорб Акрополіс здавна був фортецею, а потім місцем головних культових споруд. Однак під час персидського нападу всі вони зазнали руйнування. Перикл став ініціатором грандіозної реконструкції Акрополя. Роботами керував особистий друг Перикла — видатний скульптор Фідій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Пропілеї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Афінського акропол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3840" y="1928880"/>
            <a:ext cx="4071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Georgia"/>
              </a:rPr>
              <a:t>Найвизначнішою пам'яткою давньогрецької архітектури епохи високої класики є Пропілеї Афінського акрополя, що оформляють його вхід (437—432 до н. е., архітектор Мнесікл). У якості матеріалу було використано білий та сірий мармур. Будівництво почалось у добу Перикла і було призупинене, коли Пропілеї власне не були завершені.</a:t>
            </a: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D:\Мои документы\моя самоосвіта\ПЕДТЕХНОЛОГІЯ 2011\AteneAcropoliPropilei.jpg"/>
          <p:cNvPicPr/>
          <p:nvPr/>
        </p:nvPicPr>
        <p:blipFill>
          <a:blip r:embed="rId2"/>
          <a:srcRect l="0" t="10581" r="0" b="0"/>
          <a:stretch/>
        </p:blipFill>
        <p:spPr>
          <a:xfrm>
            <a:off x="4786200" y="1571760"/>
            <a:ext cx="422748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20:31:28Z</dcterms:created>
  <dc:creator>user</dc:creator>
  <dc:description/>
  <dc:language>en-US</dc:language>
  <cp:lastModifiedBy>1</cp:lastModifiedBy>
  <dcterms:modified xsi:type="dcterms:W3CDTF">2013-10-23T18:07:31Z</dcterms:modified>
  <cp:revision>14</cp:revision>
  <dc:subject/>
  <dc:title>Архітектура Класичної Греції</dc:title>
</cp:coreProperties>
</file>