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517-F80E-41BA-91C7-5B39EBDE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EAB-9C46-47DB-A067-C52446A7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7EB-5A90-4EBD-A135-EBB77A92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639-59DD-4FDD-A820-67728C96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D9DE-EBEA-4EAA-B070-2A6A0D12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2C15-DA5E-475A-9F93-F4508164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01E-58B6-4BEF-BE9B-A14CE294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0069-0902-40AD-A344-D6988479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53E-8872-4B8E-A6E0-AA1A8142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DBA9-C180-4435-9645-5298E84A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D88D-E232-4587-990D-DA2BA84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D48-8531-47F5-9F0A-AD4B8C89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00DC-21AE-47E9-9F54-670FCD8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E491-8C03-4F73-8DF5-7262D54C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4BED-7828-415E-B036-28C1BA2B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70A0-EE74-4212-A921-31EF613F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D18D-3963-4E7D-A7FA-53C2816F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9D1-7CEC-4AA7-8A01-4F9F1A3F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452-6343-4DC8-957A-0F575B4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453-F810-4258-ABA7-B0A9715B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063-E54B-4EBE-BD8E-35CCA9DC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C55-137B-4D56-B724-D99E5430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E80-CC0F-485B-A949-A28338E8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B92-22C5-4914-B36A-E3D3A99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E785-CC81-4E0B-9571-F45BD74A5A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11D2-2B01-4481-892E-3970BF5382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8954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f200"/>
                </a:solidFill>
                <a:latin typeface="Times New Roman"/>
              </a:rPr>
              <a:t>АРХ</a:t>
            </a:r>
            <a:r>
              <a:rPr b="1" lang="uk-UA" sz="5400" spc="-1" strike="noStrike">
                <a:solidFill>
                  <a:srgbClr val="f8f200"/>
                </a:solidFill>
                <a:latin typeface="Times New Roman"/>
              </a:rPr>
              <a:t>ІТЕКТУРНІ</a:t>
            </a: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f8f200"/>
                </a:solidFill>
                <a:latin typeface="Times New Roman"/>
              </a:rPr>
              <a:t>СТИЛІ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ІТРАЖ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2920" y="162828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2920" y="393336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9" descr="61a99128fa37339c39190bcc911233b1"/>
          <p:cNvPicPr/>
          <p:nvPr/>
        </p:nvPicPr>
        <p:blipFill>
          <a:blip r:embed="rId1"/>
          <a:stretch/>
        </p:blipFill>
        <p:spPr>
          <a:xfrm>
            <a:off x="4716360" y="1484280"/>
            <a:ext cx="4032360" cy="234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1" descr="Saint_Blaise_Louvre_2"/>
          <p:cNvPicPr/>
          <p:nvPr/>
        </p:nvPicPr>
        <p:blipFill>
          <a:blip r:embed="rId2"/>
          <a:stretch/>
        </p:blipFill>
        <p:spPr>
          <a:xfrm>
            <a:off x="395280" y="1413000"/>
            <a:ext cx="4127400" cy="5314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42-Masons-BAR800"/>
          <p:cNvPicPr/>
          <p:nvPr/>
        </p:nvPicPr>
        <p:blipFill>
          <a:blip r:embed="rId3"/>
          <a:stretch/>
        </p:blipFill>
        <p:spPr>
          <a:xfrm>
            <a:off x="4643280" y="393372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РЕНЕСАН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НОВИЙ ОДНОІМЕНИЙ СТИЛЬ, МИСТЕЦТВО ЯКОГО НАВЧИЛО ЛЮБИТИ, РАДІТИ І БАЧИТИ ЖИТТЯ. БУДІВЛІ БУЛИ ДОСКОНАЛО ГАРМОНІЙНИМИ, МОНУМЕНТАЛЬНИМИ ІЗ  ЯСНОЮ ДОМІРНІСТЮ АРХІТЕКТУРНИХ ОБРАЗІ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РЕНЕСАН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1229878662_o91"/>
          <p:cNvPicPr/>
          <p:nvPr/>
        </p:nvPicPr>
        <p:blipFill>
          <a:blip r:embed="rId1"/>
          <a:stretch/>
        </p:blipFill>
        <p:spPr>
          <a:xfrm>
            <a:off x="179280" y="1608120"/>
            <a:ext cx="8569440" cy="473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ОЗНАКИ РЕНЕСАНС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СВІТЛІ, ПРОСТОРІ СПОРУД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ХУДОЖНЯ ЦІЛІСНІСТЬ ЗАДУМ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СИМЕТРІЯ БУДОВ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ЧІТКА РИТМІЧНІСТ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БАГАТСТВО І РІЗНОМАНІТТЯ КОМПОЗИЦІЙНИХ РІШЕН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РОЗЧЛЕНУВАННЯ ФАСАДІВ НА ПОВЕРХ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2137"/>
          <p:cNvPicPr/>
          <p:nvPr/>
        </p:nvPicPr>
        <p:blipFill>
          <a:blip r:embed="rId1"/>
          <a:stretch/>
        </p:blipFill>
        <p:spPr>
          <a:xfrm>
            <a:off x="4757760" y="179856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БАРОКО  Х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I-XVIII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с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ишномовний”, “примхливий” стиль. Мистецтво пишно прикрашених будівель, монументальні палаци складної і витонченої форми, прикрашені садами, парками. Альтанками, фонтанами. Мав тонкий, вишикуваний  сма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БАРОК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repphoto_498_0458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ПИШНОМОВНИЙ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12055413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4540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Fontana-di-Trevi-07_1330613129"/>
          <p:cNvPicPr/>
          <p:nvPr/>
        </p:nvPicPr>
        <p:blipFill>
          <a:blip r:embed="rId2"/>
          <a:stretch/>
        </p:blipFill>
        <p:spPr>
          <a:xfrm>
            <a:off x="4643280" y="1700280"/>
            <a:ext cx="4038840" cy="439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ОЗНАКИ БАРОК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ИШ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ЕЛИЧ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КЛАДНІ КОНСТРУКЦІ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ИТОНЧЕ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БАГАТО ВІЗЕРУНКІВ, ЛІПНИНИ, ПОЗОЛО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ЕКОРАТИВНЕ ОЗДОБЛЕННЯ ФАСАДІ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КЛА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руга половина 18ст. Дала змогу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рганічно поєднати архітектурні ансамблі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з середовищ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5" descr="7225"/>
          <p:cNvPicPr/>
          <p:nvPr/>
        </p:nvPicPr>
        <p:blipFill>
          <a:blip r:embed="rId1"/>
          <a:stretch/>
        </p:blipFill>
        <p:spPr>
          <a:xfrm>
            <a:off x="539640" y="2708280"/>
            <a:ext cx="8136000" cy="40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Ідеалом класицизму є античне  мистецтв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Osterley_Park_800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2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АНТИЧНИЙ СТИЛ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628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393336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сі будівлі античного стилю створювалися відносно пропорцій людського тіла. Архітектура стала справжньою наукою, в процесі розвитку якої було створено цілісну систе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15" descr="218nj"/>
          <p:cNvPicPr/>
          <p:nvPr/>
        </p:nvPicPr>
        <p:blipFill>
          <a:blip r:embed="rId1"/>
          <a:stretch/>
        </p:blipFill>
        <p:spPr>
          <a:xfrm>
            <a:off x="468360" y="1413000"/>
            <a:ext cx="4103640" cy="2400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chezmoi"/>
          <p:cNvPicPr/>
          <p:nvPr/>
        </p:nvPicPr>
        <p:blipFill>
          <a:blip r:embed="rId2"/>
          <a:stretch/>
        </p:blipFill>
        <p:spPr>
          <a:xfrm>
            <a:off x="468360" y="3933720"/>
            <a:ext cx="4103640" cy="250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ОЗНАКИ   КЛАСИЦИЗМ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Логічні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ост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еометричність фор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ямі і чіткі лінії і площ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уворі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осторове членува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10" descr="fasad_Villa_Rotonda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КОНСТРУКТИВІ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7" descr="2010_09_07_konstruktivizm_1_0x0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ОЗНА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ТРОГО ГЕОМЕТРИЧНІ ФОР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ІДСУТНІСТЬ ПРИКРАС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ІДПОРЯДКОВАНІСТЬ  СПОРУД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ИКОРИСТАННЯ БЕТОНУ   і  ЗАЛІЗОБЕТОН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КАРКАСНІ КОНСТРУКЦІЇ,ВЕЛИКІ ВІКНА, ПЛАСКІ ДАХ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ЛЕГКІ”  і   ВИСОК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ОЗНАКИ СТИЛ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-36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омірність усіх частин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ластична єдні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итмічне чергування колон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енав'язливе оздобленн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мармурові скульптур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явність капіт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рандіозність пропорці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багатство оздобле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4" descr="ar9"/>
          <p:cNvPicPr/>
          <p:nvPr/>
        </p:nvPicPr>
        <p:blipFill>
          <a:blip r:embed="rId1"/>
          <a:stretch/>
        </p:blipFill>
        <p:spPr>
          <a:xfrm>
            <a:off x="5076720" y="1628640"/>
            <a:ext cx="3888000" cy="446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РОМАНСЬКИЙ  СТИЛ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имська архіте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мала певний вплив на європейську, внаслідок чого трансформувалася у Х-ХІІст.у так званий романський сти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1336121901_romanskiy1"/>
          <p:cNvPicPr/>
          <p:nvPr/>
        </p:nvPicPr>
        <p:blipFill>
          <a:blip r:embed="rId1"/>
          <a:stretch/>
        </p:blipFill>
        <p:spPr>
          <a:xfrm>
            <a:off x="4643280" y="1628640"/>
            <a:ext cx="3961080" cy="453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ажке мовчання” </a:t>
            </a:r>
            <a:r>
              <a:rPr b="1" i="1" lang="uk-UA" sz="2400" spc="-1" strike="noStrike">
                <a:solidFill>
                  <a:srgbClr val="96fcbd"/>
                </a:solidFill>
                <a:latin typeface="Times New Roman"/>
              </a:rPr>
              <a:t>ОГЮСТ  РОДЕН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2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ОЗНАКИ СТИЛ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АЖ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МАСИВНІ ФОР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ТРИМАНИЙ СКУЛЬПТУРНИМИ ПРИКРАС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УВОРИЙ  І  ХОЛОД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УЗЬКІ  ВІК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БУДІВЕЛЬНИЙ МАТЕРІАЛ - КАМІ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0c802"/>
                </a:solidFill>
                <a:latin typeface="Times New Roman"/>
              </a:rPr>
              <a:t>ГОТИЧНИЙ  СТИЛ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7" descr="sobor_notr_dam_1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726952282"/>
          <p:cNvPicPr/>
          <p:nvPr/>
        </p:nvPicPr>
        <p:blipFill>
          <a:blip r:embed="rId2"/>
          <a:stretch/>
        </p:blipFill>
        <p:spPr>
          <a:xfrm>
            <a:off x="5159520" y="1628640"/>
            <a:ext cx="3004920" cy="453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родився у другій половині ХІІстоліття. Час диктував потребу нових будівель – ратуш, соборів, будинків купців. Тут навчали, укладали угоди, проводили урочисті церемонії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gothic"/>
          <p:cNvPicPr/>
          <p:nvPr/>
        </p:nvPicPr>
        <p:blipFill>
          <a:blip r:embed="rId1"/>
          <a:stretch/>
        </p:blipFill>
        <p:spPr>
          <a:xfrm>
            <a:off x="179280" y="0"/>
            <a:ext cx="8496360" cy="392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ОЗНАКИ  СТИЛЮ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ПРЯМОВАНИЙ У НЕБ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ЕЛИЧ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УВОРІ ОБЛИЧЧЯ СВЯТ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ГОСТРЕННІ  ДАХ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ІТРАЖ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ЕЛЕТЕНСЬКІ АРОЧНІ ВІК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АРОЧНІ  КОНСТРУКЦІЇ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7:57:24Z</dcterms:created>
  <dc:creator>1</dc:creator>
  <dc:description/>
  <dc:language>en-US</dc:language>
  <cp:lastModifiedBy>Galya</cp:lastModifiedBy>
  <dcterms:modified xsi:type="dcterms:W3CDTF">2013-11-04T06:03:33Z</dcterms:modified>
  <cp:revision>5</cp:revision>
  <dc:subject/>
  <dc:title>АРХІТЕКТУРНІ СТИЛІ</dc:title>
</cp:coreProperties>
</file>